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3C7DB-B5BA-465E-9A2F-75D7DC863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933C2-830B-4F62-ACD0-164812515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875A94-8106-40B8-8040-BEEC8A40C7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907F80-FBD1-4622-A3B2-351DE00DF3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237C8-EA99-4AFF-B118-7F1EFB02E2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763177-4DB6-47BE-88B3-241809EAA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AEDF05-743B-45F5-9717-9C319516F4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D700F9-AA30-4871-86FE-F7CA5233E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5451D9-B065-4C29-AD7C-C8218B7ED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008DFF-F690-4797-AB94-196C2302ED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7187E7-544D-44F3-B5D1-F4A0145686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369B44-E451-4D97-A3C2-6D25868C46A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8BC52-8D28-43D9-B8D9-8AD86450F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966C97-C304-4C2D-A671-99BE8FD36B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35B119-0EE3-4263-8D32-BA2800D7CF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4A5CCE-F9DB-4C8D-8470-69FB01778C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0271DA-BCF7-492A-AA5C-0FCBB4724F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12C7BB-98C3-49C4-BED6-EC93750912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7F9F07-BCFF-4F36-8204-9658BCCB92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124C16-738F-4EE7-8385-F19181D2D4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6253CB-3B78-4859-91E7-3529D57CFE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F6CAB7-29CB-4208-BCE8-9E060364A8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3B2F53-B6B1-4B6C-A80D-886D525F87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474DC-DB3F-4219-8FFD-0F5480F97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56287B-49A9-43A0-ACC1-77096348BF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7C67E4-50CA-4F08-AEA3-4D71270990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3B7053-8D42-4CFE-9BCC-8040BC3A96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F2A601-3ACA-4A1E-8612-EF619FD5F6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093F07-48E8-4F15-962C-1A7070D195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3570B2-F375-47AF-A673-B320C4CBC9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CECCB6-5CE3-48A6-9348-089E3CABE4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698F86-FCCB-4533-AC41-26A938F32C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378533-9781-4013-9852-0FDF969676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4A0E23-4F34-49EB-BBA4-BACCC26862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258E2-E990-4428-A75B-C6551C224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943B92-5A29-492C-8822-8F3994206D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4218E9-DFC9-42FE-B5F1-CC54CDD8D3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00B067-95B2-4930-ACE1-134CE7BE4B4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F768EE6-BD56-484F-9406-CF37A524527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836F71F-9B41-4A55-BC3E-81C1BBE5EF0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1F2B70F-AA48-438A-A2DD-545CA51CD5B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81280A7-2D74-4F76-833E-3A9DE7B6B62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E9E61E5-FB9B-4573-80E1-6586CD0D2DC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7FED713-4743-4696-AD9C-B2036D591BD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C05EC16-84BD-4D2A-AA57-B774ADBE5D9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BB516-AB9E-4110-AA67-9F185E931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8FFC473-1EC4-4DB2-BF87-372A84FED81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FBCAED2-9F31-4989-A0C7-1460D16ACC9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90E8AF2-C9AA-43A4-B26D-9C373B1F08F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C0342A9-2B6E-4914-A853-4BCDBD191B78}"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06CB9D0-9125-48D5-B1E3-3EFDA03F0D8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23FCA-61A2-414B-9B05-88E43C510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1BD8E-5300-47AD-910E-5D8B73A6B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82758-EE2B-4E53-9ED0-2324E93B8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2F808-FDF8-45E5-A655-7282A1DC7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97AA5-21BB-4128-B9DB-914F7C1F9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43E75-47D0-4448-9923-B8F5F87E2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62C88-BDAA-407A-826E-18ED04087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0F9F7-1540-4CB9-A233-E656C236C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BD18C-A77D-4023-ADDD-E7323445A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53690-5719-4610-85CB-F2A929EFB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09150-05AE-43F2-B55F-3FC70DB30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5F0D24-EFEB-4CC8-BB96-AE60A0C39B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64613-5F4B-44B0-A450-5DE15189AE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DD9D3-5649-48BE-B9D5-56F65EA4D4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6E9F6-3789-4927-9607-600004311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A9F1A3-FEC5-4375-934C-F64AB8080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8EAC3-0FB6-43BD-9AF3-EB7B16EBA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9DB06D-8628-4655-92D9-A127E34C5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ABFE8-B013-4B43-AD16-838283F33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8424E-6EBB-499C-B8BB-A0A5C03E6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67C94-7764-4EE6-884A-89C1632BF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B01E00-D4C1-481C-87E6-5F9DEA906F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BE40F4-D681-4C63-877F-CBBEFAE035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E6DE0E-CDBC-4DF2-B325-A64A013666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34CA69-5CF6-448F-8853-7561356370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4B24A-35F2-441B-AD41-DBC9E3575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1935B-B050-4C70-85E0-97620663E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C88EB-AB13-4BF6-932F-7205D9978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CF6006-E85D-40D8-9D0E-C66C8F24E9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050D8-7E78-4297-8D00-D422A0B38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19CCF-74E6-4DE6-A25B-6D16322355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84893-3803-4F55-9402-56777C3F8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3571D-591E-42AD-87DA-97F42F869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2C578-4A4F-47A2-BE93-7659F0E30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C543B8-16B0-41E7-A7CA-DB5CC6D5D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7EA728-A800-4DA4-8748-175F2A347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5230AD-DCA1-4D60-B7B8-E5A924E3FD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642FB43-3E2D-43BE-AC39-702B17A26E7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8659F-0DC0-4452-B733-BD7C4A2BF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CF1AE9A-C65D-48BE-9332-C180C8088E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77DDEAF-3163-4030-8967-3A9DC7DF2D9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A1E4308-21CC-447C-AF23-81A0AFDE915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088DFF-C868-4697-BDFB-B3C8404CFFC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4687555-F26F-4901-A6AF-937630D2ED1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7F7661-D9EF-4B90-BE2C-7BE0311FB6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BAF013-DBD5-426B-9515-F2645335F5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DF11E4-BF5F-4250-AF42-343E78A4A2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D91D38-4D91-4F57-B7F6-856C4C3F99F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EB6F07B-3A20-4E12-8A61-E0CC13B6BD3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7A8B9-6B70-4707-8D78-152517531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349CB36-4050-4296-933D-18BB92EC83B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FFC11D-3D37-476A-BBC5-3C5D68D29A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918B8-21C9-446C-B6C8-6F4CD7F68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152615-C3F2-4522-A67A-ED4F55741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77874-CA01-4BB6-8A2A-05F6D457B5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D23634-E7BF-40B8-978B-9A1FBF5A45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FDC81E-4F41-4BD4-A393-9FB6A7A24C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3A630-05DC-4C29-8E7D-476325339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41B353-E5B0-4BFE-99CD-BA8297964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62CC8-87A9-4EC0-9EC4-E77F7C8004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E8A02-856C-4788-9F96-F137CD4BB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3EECBD-0B9A-43EF-8E63-DDE8A8F2ED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EDDC5F-B0C1-4241-B2D9-F677520E18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5A4150-1404-4A25-8208-6C2E0981E0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89CBDA-BA33-46B2-AE6F-115FDEFAD8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B7F6D-AE84-481A-B538-CCC166AC5F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FC9A8C-E4B3-4512-A7E3-C02D58B061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33B95-EFD8-48EC-8F40-F6767B235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3973A1-513D-499A-A979-1C2BFFA31D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3D253C-0957-446E-B03C-316D9F7F85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C76935-9113-469C-B1F2-F8A4B9B17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CBC5E-8D2E-4EF3-895A-A3A5EFAA8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5BEC72-8E78-43B4-9A06-763FBEA489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1213C6-DFBF-4649-83DA-3F436760F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B02C18-66DB-4EDE-9BA5-9CA698C1F9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3E4E48-28E6-4B6C-B3ED-8565C8253C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A1CAB7-A640-4DD9-A982-DF8A0E42FA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7110E1-FCD2-4C35-A039-1A38FC3946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2B7FAF-99C5-45BF-B18F-88B8B64D79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8940D1-D6F6-4F33-B366-174B2914C7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27B09C-BE92-4BD5-99C4-E6025D8D4D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99F584-B455-4875-9B5C-2BFEABE2DA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E28B-0287-4FC7-BC9A-8A65B9BFA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637C7E-526A-4D99-A898-FD97511E5B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0B29FF-5431-41AF-909E-156B15063B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28BD18-5A51-42E9-BE7D-57B3082DB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FF00A5-FADB-4B03-B791-003B32E45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DB8E82-65FE-418E-A4D0-38C296CFF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23616F-686D-49B5-A3F7-6DE5809ACF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A224CB-5AFB-425D-9377-114ACFBC4F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D2F5C2-12D0-43DC-A747-B38A06A609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DE1EE8-3189-48BB-838A-541A31BE03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B2B01-3ACB-4F54-9A38-AE0BFB1154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3C43-CE66-4D2E-95BD-2672B4335CD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795" name=""/>
          <p:cNvGrpSpPr/>
          <p:nvPr/>
        </p:nvGrpSpPr>
        <p:grpSpPr>
          <a:xfrm>
            <a:off x="3600" y="1422360"/>
            <a:ext cx="9143640" cy="5435640"/>
            <a:chOff x="3600" y="1422360"/>
            <a:chExt cx="9143640" cy="5435640"/>
          </a:xfrm>
        </p:grpSpPr>
        <p:grpSp>
          <p:nvGrpSpPr>
            <p:cNvPr id="796" name=""/>
            <p:cNvGrpSpPr/>
            <p:nvPr/>
          </p:nvGrpSpPr>
          <p:grpSpPr>
            <a:xfrm>
              <a:off x="31680" y="1422360"/>
              <a:ext cx="9115560" cy="5435640"/>
              <a:chOff x="31680" y="1422360"/>
              <a:chExt cx="9115560" cy="5435640"/>
            </a:xfrm>
          </p:grpSpPr>
          <p:sp>
            <p:nvSpPr>
              <p:cNvPr id="79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9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9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810" name=""/>
            <p:cNvGrpSpPr/>
            <p:nvPr/>
          </p:nvGrpSpPr>
          <p:grpSpPr>
            <a:xfrm>
              <a:off x="3600" y="3639960"/>
              <a:ext cx="2193840" cy="2694240"/>
              <a:chOff x="3600" y="3639960"/>
              <a:chExt cx="2193840" cy="2694240"/>
            </a:xfrm>
          </p:grpSpPr>
          <p:sp>
            <p:nvSpPr>
              <p:cNvPr id="81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1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1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1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2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2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5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6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8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3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3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4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4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4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947" name="PlaceHolder 2"/>
          <p:cNvSpPr>
            <a:spLocks noGrp="1"/>
          </p:cNvSpPr>
          <p:nvPr>
            <p:ph type="dt" idx="2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94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949" name="PlaceHolder 4"/>
          <p:cNvSpPr>
            <a:spLocks noGrp="1"/>
          </p:cNvSpPr>
          <p:nvPr>
            <p:ph type="sldNum" idx="3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FAAC-1217-4E41-B1CB-DCC74665BC7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8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9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9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9560-6AE3-41EA-8BB7-BBED1FFA293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28"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PlaceHolder 2"/>
          <p:cNvSpPr>
            <a:spLocks noGrp="1"/>
          </p:cNvSpPr>
          <p:nvPr>
            <p:ph type="ftr" idx="3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0" name="PlaceHolder 3"/>
          <p:cNvSpPr>
            <a:spLocks noGrp="1"/>
          </p:cNvSpPr>
          <p:nvPr>
            <p:ph type="sldNum" idx="3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C2F0-27B8-4A55-808D-B4FC9359251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031" name="PlaceHolder 4"/>
          <p:cNvSpPr>
            <a:spLocks noGrp="1"/>
          </p:cNvSpPr>
          <p:nvPr>
            <p:ph type="dt" idx="3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ED76-A533-44C3-97AD-BF453375559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4716360" y="5345280"/>
            <a:ext cx="4427640" cy="1512720"/>
            <a:chOff x="4716360" y="5345280"/>
            <a:chExt cx="4427640" cy="1512720"/>
          </a:xfrm>
        </p:grpSpPr>
        <p:sp>
          <p:nvSpPr>
            <p:cNvPr id="15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2"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7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74"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2D19-1AEF-45B6-BD6E-80FD1FD03E6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7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12" name=""/>
          <p:cNvGrpSpPr/>
          <p:nvPr/>
        </p:nvGrpSpPr>
        <p:grpSpPr>
          <a:xfrm>
            <a:off x="4716360" y="5345280"/>
            <a:ext cx="4427640" cy="1512720"/>
            <a:chOff x="4716360" y="5345280"/>
            <a:chExt cx="4427640" cy="1512720"/>
          </a:xfrm>
        </p:grpSpPr>
        <p:sp>
          <p:nvSpPr>
            <p:cNvPr id="21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229"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3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31"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7427-3F55-4EBF-AD93-BD55773F692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68" name=""/>
          <p:cNvGrpSpPr/>
          <p:nvPr/>
        </p:nvGrpSpPr>
        <p:grpSpPr>
          <a:xfrm>
            <a:off x="0" y="0"/>
            <a:ext cx="9159840" cy="6858000"/>
            <a:chOff x="0" y="0"/>
            <a:chExt cx="9159840" cy="6858000"/>
          </a:xfrm>
        </p:grpSpPr>
        <p:sp>
          <p:nvSpPr>
            <p:cNvPr id="26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2"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93"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5877-B0C2-405E-8238-5F28E22312C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94"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31" name=""/>
          <p:cNvGrpSpPr/>
          <p:nvPr/>
        </p:nvGrpSpPr>
        <p:grpSpPr>
          <a:xfrm>
            <a:off x="0" y="0"/>
            <a:ext cx="9159840" cy="6858000"/>
            <a:chOff x="0" y="0"/>
            <a:chExt cx="9159840" cy="6858000"/>
          </a:xfrm>
        </p:grpSpPr>
        <p:sp>
          <p:nvSpPr>
            <p:cNvPr id="33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5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5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5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6DAE-05A0-429D-B522-A9C545C0CA6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3"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4" name=""/>
          <p:cNvGrpSpPr/>
          <p:nvPr/>
        </p:nvGrpSpPr>
        <p:grpSpPr>
          <a:xfrm>
            <a:off x="3240" y="4267080"/>
            <a:ext cx="9140760" cy="2590920"/>
            <a:chOff x="3240" y="4267080"/>
            <a:chExt cx="9140760" cy="2590920"/>
          </a:xfrm>
        </p:grpSpPr>
        <p:sp>
          <p:nvSpPr>
            <p:cNvPr id="395"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6" name=""/>
            <p:cNvGrpSpPr/>
            <p:nvPr/>
          </p:nvGrpSpPr>
          <p:grpSpPr>
            <a:xfrm>
              <a:off x="5600880" y="5897520"/>
              <a:ext cx="1256760" cy="827280"/>
              <a:chOff x="5600880" y="5897520"/>
              <a:chExt cx="1256760" cy="827280"/>
            </a:xfrm>
          </p:grpSpPr>
          <p:sp>
            <p:nvSpPr>
              <p:cNvPr id="397"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07"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408" name=""/>
            <p:cNvGrpSpPr/>
            <p:nvPr/>
          </p:nvGrpSpPr>
          <p:grpSpPr>
            <a:xfrm>
              <a:off x="2819520" y="5764320"/>
              <a:ext cx="2581200" cy="1084320"/>
              <a:chOff x="2819520" y="5764320"/>
              <a:chExt cx="2581200" cy="1084320"/>
            </a:xfrm>
          </p:grpSpPr>
          <p:sp>
            <p:nvSpPr>
              <p:cNvPr id="40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417"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6553080" y="5334120"/>
              <a:ext cx="2144880" cy="1303200"/>
              <a:chOff x="6553080" y="5334120"/>
              <a:chExt cx="2144880" cy="1303200"/>
            </a:xfrm>
          </p:grpSpPr>
          <p:sp>
            <p:nvSpPr>
              <p:cNvPr id="42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445" name=""/>
            <p:cNvGrpSpPr/>
            <p:nvPr/>
          </p:nvGrpSpPr>
          <p:grpSpPr>
            <a:xfrm>
              <a:off x="8381880" y="4800600"/>
              <a:ext cx="674640" cy="409680"/>
              <a:chOff x="8381880" y="4800600"/>
              <a:chExt cx="674640" cy="409680"/>
            </a:xfrm>
          </p:grpSpPr>
          <p:sp>
            <p:nvSpPr>
              <p:cNvPr id="446"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0"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3" name=""/>
              <p:cNvGrpSpPr/>
              <p:nvPr/>
            </p:nvGrpSpPr>
            <p:grpSpPr>
              <a:xfrm>
                <a:off x="8542440" y="4897440"/>
                <a:ext cx="360360" cy="209520"/>
                <a:chOff x="8542440" y="4897440"/>
                <a:chExt cx="360360" cy="209520"/>
              </a:xfrm>
            </p:grpSpPr>
            <p:sp>
              <p:nvSpPr>
                <p:cNvPr id="454"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7"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6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0CBC-B645-40CB-9C7D-04C6B15D7B7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99" name=""/>
          <p:cNvGrpSpPr/>
          <p:nvPr/>
        </p:nvGrpSpPr>
        <p:grpSpPr>
          <a:xfrm>
            <a:off x="3240" y="4267080"/>
            <a:ext cx="9140760" cy="2590920"/>
            <a:chOff x="3240" y="4267080"/>
            <a:chExt cx="9140760" cy="2590920"/>
          </a:xfrm>
        </p:grpSpPr>
        <p:sp>
          <p:nvSpPr>
            <p:cNvPr id="500"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1" name=""/>
            <p:cNvGrpSpPr/>
            <p:nvPr/>
          </p:nvGrpSpPr>
          <p:grpSpPr>
            <a:xfrm>
              <a:off x="5600880" y="5897520"/>
              <a:ext cx="1256760" cy="827280"/>
              <a:chOff x="5600880" y="5897520"/>
              <a:chExt cx="1256760" cy="827280"/>
            </a:xfrm>
          </p:grpSpPr>
          <p:sp>
            <p:nvSpPr>
              <p:cNvPr id="502"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2"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513" name=""/>
            <p:cNvGrpSpPr/>
            <p:nvPr/>
          </p:nvGrpSpPr>
          <p:grpSpPr>
            <a:xfrm>
              <a:off x="2819520" y="5764320"/>
              <a:ext cx="2581200" cy="1084320"/>
              <a:chOff x="2819520" y="5764320"/>
              <a:chExt cx="2581200" cy="1084320"/>
            </a:xfrm>
          </p:grpSpPr>
          <p:sp>
            <p:nvSpPr>
              <p:cNvPr id="51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522"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2" name=""/>
            <p:cNvGrpSpPr/>
            <p:nvPr/>
          </p:nvGrpSpPr>
          <p:grpSpPr>
            <a:xfrm>
              <a:off x="6553080" y="5334120"/>
              <a:ext cx="2144880" cy="1303200"/>
              <a:chOff x="6553080" y="5334120"/>
              <a:chExt cx="2144880" cy="1303200"/>
            </a:xfrm>
          </p:grpSpPr>
          <p:sp>
            <p:nvSpPr>
              <p:cNvPr id="53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3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44"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50" name=""/>
            <p:cNvGrpSpPr/>
            <p:nvPr/>
          </p:nvGrpSpPr>
          <p:grpSpPr>
            <a:xfrm>
              <a:off x="8381880" y="4800600"/>
              <a:ext cx="674640" cy="409680"/>
              <a:chOff x="8381880" y="4800600"/>
              <a:chExt cx="674640" cy="409680"/>
            </a:xfrm>
          </p:grpSpPr>
          <p:sp>
            <p:nvSpPr>
              <p:cNvPr id="551"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3"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55"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8" name=""/>
              <p:cNvGrpSpPr/>
              <p:nvPr/>
            </p:nvGrpSpPr>
            <p:grpSpPr>
              <a:xfrm>
                <a:off x="8542440" y="4897440"/>
                <a:ext cx="360360" cy="209520"/>
                <a:chOff x="8542440" y="4897440"/>
                <a:chExt cx="360360" cy="209520"/>
              </a:xfrm>
            </p:grpSpPr>
            <p:sp>
              <p:nvSpPr>
                <p:cNvPr id="559"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2"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5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64"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6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66"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EE0C-1545-4433-9A94-63BE97F95C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603" name=""/>
          <p:cNvGrpSpPr/>
          <p:nvPr/>
        </p:nvGrpSpPr>
        <p:grpSpPr>
          <a:xfrm>
            <a:off x="3600" y="1422360"/>
            <a:ext cx="9143640" cy="5435640"/>
            <a:chOff x="3600" y="1422360"/>
            <a:chExt cx="9143640" cy="5435640"/>
          </a:xfrm>
        </p:grpSpPr>
        <p:grpSp>
          <p:nvGrpSpPr>
            <p:cNvPr id="604" name=""/>
            <p:cNvGrpSpPr/>
            <p:nvPr/>
          </p:nvGrpSpPr>
          <p:grpSpPr>
            <a:xfrm>
              <a:off x="31680" y="1422360"/>
              <a:ext cx="9115560" cy="5435640"/>
              <a:chOff x="31680" y="1422360"/>
              <a:chExt cx="9115560" cy="5435640"/>
            </a:xfrm>
          </p:grpSpPr>
          <p:sp>
            <p:nvSpPr>
              <p:cNvPr id="60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618" name=""/>
            <p:cNvGrpSpPr/>
            <p:nvPr/>
          </p:nvGrpSpPr>
          <p:grpSpPr>
            <a:xfrm>
              <a:off x="3600" y="3639960"/>
              <a:ext cx="2193840" cy="2694240"/>
              <a:chOff x="3600" y="3639960"/>
              <a:chExt cx="2193840" cy="2694240"/>
            </a:xfrm>
          </p:grpSpPr>
          <p:sp>
            <p:nvSpPr>
              <p:cNvPr id="61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2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2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2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3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3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5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7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70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74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5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55" name="PlaceHolder 2"/>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56"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57" name="PlaceHolder 4"/>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FEB0-CF6E-4BA5-A2B1-B0BA872E838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8"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149200"/>
            <a:ext cx="7772400" cy="1111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ick Oliver’s Reflection Statement</a:t>
            </a:r>
            <a:endParaRPr b="0" lang="en-US" sz="4400" spc="-1" strike="noStrike">
              <a:solidFill>
                <a:srgbClr val="ffffff"/>
              </a:solidFill>
              <a:latin typeface="Tahoma"/>
            </a:endParaRPr>
          </a:p>
        </p:txBody>
      </p:sp>
      <p:sp>
        <p:nvSpPr>
          <p:cNvPr id="10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April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71" name=""/>
          <p:cNvSpPr/>
          <p:nvPr/>
        </p:nvSpPr>
        <p:spPr>
          <a:xfrm>
            <a:off x="457200" y="1295280"/>
            <a:ext cx="80010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learned that the backward design model is the way to plan a unit because you start out by figuring out what the students need to know and plan the lessons accordingly.</a:t>
            </a:r>
            <a:endParaRPr b="0" lang="en-US" sz="2400" spc="-1" strike="noStrike">
              <a:solidFill>
                <a:srgbClr val="ffffff"/>
              </a:solidFill>
              <a:latin typeface="Times New Roman"/>
            </a:endParaRPr>
          </a:p>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entiated instruction is important because all students learn differently and the job of the teacher is to help the students learn in a way that is meaningful to them.</a:t>
            </a:r>
            <a:endParaRPr b="0" lang="en-US" sz="2400" spc="-1" strike="noStrike">
              <a:solidFill>
                <a:srgbClr val="ffffff"/>
              </a:solidFill>
              <a:latin typeface="Times New Roman"/>
            </a:endParaRPr>
          </a:p>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zzes and tests are not the only way to measure understanding. Giving formative assessments like non-graded assignments and in-class work can help the teacher measure progress throughout the lesson. This way, both the teacher and the student are aware of whether or not the student is grasping the material BEFORE the summative assessment.</a:t>
            </a:r>
            <a:endParaRPr b="0" lang="en-US" sz="2400" spc="-1" strike="noStrike">
              <a:solidFill>
                <a:srgbClr val="ffffff"/>
              </a:solidFill>
              <a:latin typeface="Times New Roman"/>
            </a:endParaRPr>
          </a:p>
        </p:txBody>
      </p:sp>
      <p:sp>
        <p:nvSpPr>
          <p:cNvPr id="1072" name=""/>
          <p:cNvSpPr/>
          <p:nvPr/>
        </p:nvSpPr>
        <p:spPr>
          <a:xfrm>
            <a:off x="53352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ing Essential Ques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73" name=""/>
          <p:cNvSpPr/>
          <p:nvPr/>
        </p:nvSpPr>
        <p:spPr>
          <a:xfrm>
            <a:off x="609480" y="83808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learned a lot from practicum. There is so much information that will stay with me. Integrating technology in the classroom, creating lessons, and starting to think like a teacher are some of the main things I have learned.</a:t>
            </a:r>
            <a:endParaRPr b="0" lang="en-US" sz="2400" spc="-1" strike="noStrike">
              <a:solidFill>
                <a:srgbClr val="ffffff"/>
              </a:solidFill>
              <a:latin typeface="Times New Roman"/>
            </a:endParaRPr>
          </a:p>
        </p:txBody>
      </p:sp>
      <p:sp>
        <p:nvSpPr>
          <p:cNvPr id="1074" name=""/>
          <p:cNvSpPr/>
          <p:nvPr/>
        </p:nvSpPr>
        <p:spPr>
          <a:xfrm>
            <a:off x="685800" y="29718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5" name=""/>
          <p:cNvSpPr/>
          <p:nvPr/>
        </p:nvSpPr>
        <p:spPr>
          <a:xfrm>
            <a:off x="1066680" y="1066680"/>
            <a:ext cx="7162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eaching experience I gained in the field will stay with me for a long time. It has helped me become a better teacher. Instead of being fairly confident in front of students, I am now extremely confident and I know that I will be able to handle myself well from now on. Because of this I am confident that I will change the worl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76" name=""/>
          <p:cNvSpPr/>
          <p:nvPr/>
        </p:nvSpPr>
        <p:spPr>
          <a:xfrm>
            <a:off x="990720" y="533520"/>
            <a:ext cx="7467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major thing that changed for me is that when I started practicum, I wanted to teach the higher grades in high school only. My experience with Mr. Main has made me enjoy teaching freshmen and I am glad that I am now comfortable teaching all high school grade leve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77" name=""/>
          <p:cNvSpPr/>
          <p:nvPr/>
        </p:nvSpPr>
        <p:spPr>
          <a:xfrm>
            <a:off x="838080" y="914400"/>
            <a:ext cx="7620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fore practicum I was unaware of teaching to the MIs and I was standing up in front of the class trying to engage the students by talking. Now I can figure out ways to engage students that do not just involve talk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78" name=""/>
          <p:cNvSpPr/>
          <p:nvPr/>
        </p:nvSpPr>
        <p:spPr>
          <a:xfrm>
            <a:off x="533520" y="76212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definitely learned more from this class than I ever could have from just volunteering at my former high school. I am very glad that I decided to take practicum- even though it was a nightmare at tim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23:01:13Z</dcterms:created>
  <dc:creator>UMF</dc:creator>
  <dc:description/>
  <dc:language>en-US</dc:language>
  <cp:lastModifiedBy>U Maine Farmington</cp:lastModifiedBy>
  <dcterms:modified xsi:type="dcterms:W3CDTF">2008-04-10T11:24:52Z</dcterms:modified>
  <cp:revision>5</cp:revision>
  <dc:subject/>
  <dc:title>Nick Oliver’s Reflection Statement</dc:title>
</cp:coreProperties>
</file>